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4275-931A-4C9E-A670-07E75F7C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12F-E299-476C-8117-22C06F9F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31F-38D7-4923-82A4-DA66B171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A93-55F0-4FC7-9604-D566D083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16D0-4260-44CB-8EB0-2CDBE96C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9841-7922-407C-A8BA-32851FC2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FD38-B0D1-4380-AEBD-B38B559A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BF27-E40B-4053-8626-B30D9F35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A26B-8028-48FB-9E61-D8FB61CC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FF02-B2E1-4B79-AD9B-AEFEAFD0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5A8B-7848-404B-BAA6-BCE4AECE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4723-A9B7-4A86-82B0-72755E8D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4145-59F1-468F-9C9B-1722753F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F264-98D0-45C3-B67C-D4B970E1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F2C3-5A15-4BEF-84EF-49084CD5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B217-51FB-49AE-AEB0-D5532F16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56E2-E155-4664-A4F4-DF98E066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A260-B47A-4770-88DD-8276712F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EE8E-9486-453E-B25B-55F9061B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EF2-74D9-42FE-889D-B0A8415C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DFC-8D38-45C4-962F-289B9413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5C6-B091-43DD-A97F-120F121E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5E55-8EC3-4EA6-93D4-23670AEE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80E-6AB9-4912-8FC1-CE53E2F9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FDC2-3F73-443A-A768-F0AF7A4053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C1F0-A590-405A-96C7-9CFDE92AFD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Imager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ing Sensory Detail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mage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image is language that describes something that can be seen, heard, touched, tasted, or smell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mages in a literary work are referred to, when considered together, as the work’s image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g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sun’s beams shimmered and danced on the ocean’s gentle wave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1029" descr="Picture 295"/>
          <p:cNvPicPr/>
          <p:nvPr/>
        </p:nvPicPr>
        <p:blipFill>
          <a:blip r:embed="rId1"/>
          <a:stretch/>
        </p:blipFill>
        <p:spPr>
          <a:xfrm>
            <a:off x="457200" y="2467080"/>
            <a:ext cx="40132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m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fragrant roses drifted through the room like elusive ghosts.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12" descr="smelltheroses"/>
          <p:cNvPicPr/>
          <p:nvPr/>
        </p:nvPicPr>
        <p:blipFill>
          <a:blip r:embed="rId1"/>
          <a:stretch/>
        </p:blipFill>
        <p:spPr>
          <a:xfrm>
            <a:off x="1109520" y="1886040"/>
            <a:ext cx="27068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un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hough they could not see outside the cabin, they could hear the eerie tapping, tapping, tapping, of his knife upon their do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Picture 6" descr="Hearing-assistance-symbol"/>
          <p:cNvPicPr/>
          <p:nvPr/>
        </p:nvPicPr>
        <p:blipFill>
          <a:blip r:embed="rId1"/>
          <a:stretch/>
        </p:blipFill>
        <p:spPr>
          <a:xfrm>
            <a:off x="1143000" y="2057400"/>
            <a:ext cx="289548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s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heesecake’s exquisite flavor traveled from his tongue to his spin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885680"/>
            <a:ext cx="4013280" cy="4172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http://thebestthingiknow.com/wp-content/uploads/2013/10/taste-buds.jpg"/>
          <p:cNvPicPr/>
          <p:nvPr/>
        </p:nvPicPr>
        <p:blipFill>
          <a:blip r:embed="rId2"/>
          <a:stretch/>
        </p:blipFill>
        <p:spPr>
          <a:xfrm>
            <a:off x="168120" y="1981080"/>
            <a:ext cx="47628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uc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icy breeze gently brushed against the hair on her neck, and goose-bumps shortly followed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6" descr="touchLite"/>
          <p:cNvPicPr/>
          <p:nvPr/>
        </p:nvPicPr>
        <p:blipFill>
          <a:blip r:embed="rId1"/>
          <a:stretch/>
        </p:blipFill>
        <p:spPr>
          <a:xfrm>
            <a:off x="304920" y="2286000"/>
            <a:ext cx="426708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15:20:44Z</dcterms:created>
  <dc:creator>Authorized User</dc:creator>
  <dc:description/>
  <dc:language>en-US</dc:language>
  <cp:lastModifiedBy>San Diego City Schools</cp:lastModifiedBy>
  <dcterms:modified xsi:type="dcterms:W3CDTF">2013-11-07T14:54:51Z</dcterms:modified>
  <cp:revision>9</cp:revision>
  <dc:subject/>
  <dc:title>Elements of Poetry</dc:title>
</cp:coreProperties>
</file>